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4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82D-654E-4B38-9D6A-819AA910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40A-61E9-4489-A483-1850BDB5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21D-86B6-4D81-8D13-E4E7C3CB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D99-0063-4FD7-993D-195E56A5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E77B-0853-4716-91D2-2FEBE8CF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0F1B-CDA7-4442-A6C5-F03896E2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CAB6-9A99-4D49-A2FA-395F38D1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147E-94F6-4180-81D2-966D961C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C81D-3915-44E9-9113-73DF7E0A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6DC2-98D1-4CD0-BE31-02D06CCB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8B29-A233-4817-9413-B06BD54D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EE0-A8F4-4397-97DA-B915A5C8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86F7-FB3E-4D1F-831F-6E759687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4B6A-A21F-417F-8ADD-4BE6BD35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CAF0-9A6B-4F14-8304-2AD5FD6B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8C2D-7657-4693-B678-26AC23E5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0D45-71DA-4EB3-B832-F9832EE1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BF8D-92D9-4E11-B55C-97281913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417-4FBB-4CE6-87BB-2E239A34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4017-C43E-4C35-B11E-2800991C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54C7-489B-417A-8868-FB6A7AD9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C1A-643C-4385-AA02-BD07BB47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4A0-4355-4344-89FD-1E1D2A1D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373-1ED5-422D-8157-DA7BE759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746600" y="-792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075A-13B2-4A97-A80D-8E5FBFA13A03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428640" y="1107360"/>
            <a:ext cx="5695920" cy="4114800"/>
          </a:xfrm>
          <a:custGeom>
            <a:avLst/>
            <a:gdLst>
              <a:gd name="textAreaLeft" fmla="*/ 0 w 5695920"/>
              <a:gd name="textAreaRight" fmla="*/ 5621040 w 569592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695950" h="4114800">
                <a:moveTo>
                  <a:pt x="0" y="0"/>
                </a:moveTo>
                <a:lnTo>
                  <a:pt x="5545924" y="0"/>
                </a:lnTo>
                <a:lnTo>
                  <a:pt x="5695950" y="150026"/>
                </a:lnTo>
                <a:lnTo>
                  <a:pt x="569595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670600" y="5358960"/>
            <a:ext cx="1681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10800" y="581544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746600" y="621900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749800" y="6356520"/>
            <a:ext cx="660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F939-71C2-48FB-9BBB-7721C902FB1A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\\ads-gfs1\home\fcomeron\Malaga 2009\UTs.jpg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695160" y="201600"/>
            <a:ext cx="9571320" cy="1455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0" y="48006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d204"/>
                </a:solidFill>
                <a:latin typeface="Arial"/>
              </a:rPr>
              <a:t>Fernando Comer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0" descr="eso-logo"/>
          <p:cNvPicPr/>
          <p:nvPr/>
        </p:nvPicPr>
        <p:blipFill>
          <a:blip r:embed="rId3"/>
          <a:stretch/>
        </p:blipFill>
        <p:spPr>
          <a:xfrm>
            <a:off x="3733920" y="4762440"/>
            <a:ext cx="639720" cy="800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152280" y="556272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6bd204"/>
                </a:solidFill>
                <a:latin typeface="Arial"/>
              </a:rPr>
              <a:t>With thanks to Paul Vreeswijk and the team who implemented the RRM at the V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UVES GRB afterglow sample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944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4" name=""/>
          <p:cNvGraphicFramePr/>
          <p:nvPr/>
        </p:nvGraphicFramePr>
        <p:xfrm>
          <a:off x="1219320" y="1371600"/>
          <a:ext cx="7380000" cy="4599000"/>
        </p:xfrm>
        <a:graphic>
          <a:graphicData uri="http://schemas.openxmlformats.org/drawingml/2006/table">
            <a:tbl>
              <a:tblPr/>
              <a:tblGrid>
                <a:gridCol w="1282680"/>
                <a:gridCol w="1284120"/>
                <a:gridCol w="1282680"/>
                <a:gridCol w="1282680"/>
                <a:gridCol w="1284480"/>
                <a:gridCol w="963360"/>
              </a:tblGrid>
              <a:tr h="4424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G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Times New Roman"/>
                        </a:rPr>
                        <a:t>Δ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Times New Roman"/>
                        </a:rPr>
                        <a:t>(hh:m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expti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(hour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log N</a:t>
                      </a:r>
                      <a:r>
                        <a:rPr b="0" lang="en-US" sz="1400" spc="-1" strike="noStrike" baseline="-6000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H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[X/H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208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0: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2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21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3: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3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507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4: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3.9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2.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-2.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508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0: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6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1.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-0.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50922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3: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1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1.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-1.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604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0: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4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606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0: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3.0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7.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</a:tr>
              <a:tr h="250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710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0: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6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2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-1.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</a:tr>
              <a:tr h="250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803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0: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4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8.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-1.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80319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0: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.9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803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1: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804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3: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4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1.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-1.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808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0: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2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81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4: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9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810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0: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3.8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</a:tr>
            </a:tbl>
          </a:graphicData>
        </a:graphic>
      </p:graphicFrame>
      <p:sp>
        <p:nvSpPr>
          <p:cNvPr id="1045" name="Rectangle 7"/>
          <p:cNvSpPr/>
          <p:nvPr/>
        </p:nvSpPr>
        <p:spPr>
          <a:xfrm>
            <a:off x="1066680" y="6019920"/>
            <a:ext cx="7696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grams by Vreeswijk et al., Fiore/D’Elia et 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Some highlights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047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Rectangle 7"/>
          <p:cNvSpPr/>
          <p:nvPr/>
        </p:nvSpPr>
        <p:spPr>
          <a:xfrm>
            <a:off x="228600" y="1295280"/>
            <a:ext cx="5181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mma-Ray Burst (GRB) afterglow photometric and spectroscopic follow-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stigation of the intervening intergalactic medium (dust content, metallicity, reionization epoch) along the line of sight to distant GR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stigation of the interstellar medium surrounding the GRB (ionization, dynamic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B/Supernova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er only for GRB thus far, but potential goes beyond GRBs (one program currently accepted for RRM observations of giant stellar flare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8" name="Picture 2" descr="\\ads-gfs1\home\fcomeron\Malaga 2009\spectra.jpg"/>
          <p:cNvPicPr/>
          <p:nvPr/>
        </p:nvPicPr>
        <p:blipFill>
          <a:blip r:embed="rId5"/>
          <a:stretch/>
        </p:blipFill>
        <p:spPr>
          <a:xfrm>
            <a:off x="5562720" y="1295280"/>
            <a:ext cx="40478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105"/>
          <p:cNvSpPr/>
          <p:nvPr/>
        </p:nvSpPr>
        <p:spPr>
          <a:xfrm>
            <a:off x="6172200" y="1295280"/>
            <a:ext cx="3581280" cy="449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9055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Absorption-line variability: probing the interstellar medium near GRBs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151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Rectangle 7"/>
          <p:cNvSpPr/>
          <p:nvPr/>
        </p:nvSpPr>
        <p:spPr>
          <a:xfrm>
            <a:off x="228600" y="1371600"/>
            <a:ext cx="5791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stable and fine-structure levels of FeII, NiII at high z detected in absorption against GR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V pumping caused by the GRB followed by fluorescence reproduces model expectations; collisional excitation and direct excitation by infrared photons are discard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RB distance to absorbing clouds can be determined from models; from tens of pc to kiloparsecs (intervening material ionized by the GR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RB spectral slope and UV flux irradiating the cloud are determined to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2" name="Picture 2" descr=""/>
          <p:cNvPicPr/>
          <p:nvPr/>
        </p:nvPicPr>
        <p:blipFill>
          <a:blip r:embed="rId6"/>
          <a:stretch/>
        </p:blipFill>
        <p:spPr>
          <a:xfrm>
            <a:off x="6248520" y="1371600"/>
            <a:ext cx="3504960" cy="4343400"/>
          </a:xfrm>
          <a:prstGeom prst="rect">
            <a:avLst/>
          </a:prstGeom>
          <a:ln w="0">
            <a:noFill/>
          </a:ln>
        </p:spPr>
      </p:pic>
      <p:sp>
        <p:nvSpPr>
          <p:cNvPr id="1253" name="Rectangle 7"/>
          <p:cNvSpPr/>
          <p:nvPr/>
        </p:nvSpPr>
        <p:spPr>
          <a:xfrm>
            <a:off x="4114800" y="5867280"/>
            <a:ext cx="5638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GRB 060418 from Vreeswijk et al. 2007, A&amp;A 468, 8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The future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255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228600" y="1219320"/>
            <a:ext cx="6400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ast connection between Paranal and Europe will allow near-real time interaction, both ways, between an observer located (nearly) anywhere and the observa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SO is a pilot project, funded by the European Union’s Framework Program 7, to build a fiber link between Paranal and Cerro Armazones and the Chilean backbone near Antofaga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stallation completed in November 2010, integration in operations in 201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SO will provide Gbps capacity between the observatories and Eur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6" name="Picture 2" descr="\\ads-gfs1\home\fcomeron\Malaga 2009\FP7-cap-RGB.gif"/>
          <p:cNvPicPr/>
          <p:nvPr/>
        </p:nvPicPr>
        <p:blipFill>
          <a:blip r:embed="rId6"/>
          <a:stretch/>
        </p:blipFill>
        <p:spPr>
          <a:xfrm>
            <a:off x="7848720" y="5181480"/>
            <a:ext cx="1181160" cy="960480"/>
          </a:xfrm>
          <a:prstGeom prst="rect">
            <a:avLst/>
          </a:prstGeom>
          <a:ln w="0">
            <a:noFill/>
          </a:ln>
        </p:spPr>
      </p:pic>
      <p:pic>
        <p:nvPicPr>
          <p:cNvPr id="1357" name="Picture 3" descr="\\ads-gfs1\home\fcomeron\dmo\fp7\Network\logo_midsize.jpg"/>
          <p:cNvPicPr/>
          <p:nvPr/>
        </p:nvPicPr>
        <p:blipFill>
          <a:blip r:embed="rId7"/>
          <a:stretch/>
        </p:blipFill>
        <p:spPr>
          <a:xfrm>
            <a:off x="6934320" y="3581280"/>
            <a:ext cx="2792160" cy="1468440"/>
          </a:xfrm>
          <a:prstGeom prst="rect">
            <a:avLst/>
          </a:prstGeom>
          <a:ln w="0">
            <a:noFill/>
          </a:ln>
        </p:spPr>
      </p:pic>
      <p:pic>
        <p:nvPicPr>
          <p:cNvPr id="1358" name="Picture 107" descr="http://www.eso.org/public/archives/images/screen/potw1021a.jpg"/>
          <p:cNvPicPr/>
          <p:nvPr/>
        </p:nvPicPr>
        <p:blipFill>
          <a:blip r:embed="rId8"/>
          <a:stretch/>
        </p:blipFill>
        <p:spPr>
          <a:xfrm>
            <a:off x="6858000" y="1600200"/>
            <a:ext cx="28288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The future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360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Rectangle 7"/>
          <p:cNvSpPr/>
          <p:nvPr/>
        </p:nvSpPr>
        <p:spPr>
          <a:xfrm>
            <a:off x="228600" y="1295280"/>
            <a:ext cx="4419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uropean Extremely Large Telescope (E-ELT) will be a fully adaptive telescope, equipped to address a wide range of astrophysical and cosmological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pid Response Mode can also be implemented at the E-ELT: diffraction-limited imaging and spectroscopy with a 40m-class tele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1" name="Picture 2" descr="\\ads-gfs1\home\fcomeron\Alghero_0908\E-ELT\landscape.jpg"/>
          <p:cNvPicPr/>
          <p:nvPr/>
        </p:nvPicPr>
        <p:blipFill>
          <a:blip r:embed="rId3"/>
          <a:stretch/>
        </p:blipFill>
        <p:spPr>
          <a:xfrm>
            <a:off x="4648320" y="1371600"/>
            <a:ext cx="4970520" cy="3367080"/>
          </a:xfrm>
          <a:prstGeom prst="rect">
            <a:avLst/>
          </a:prstGeom>
          <a:ln w="0">
            <a:noFill/>
          </a:ln>
        </p:spPr>
      </p:pic>
      <p:sp>
        <p:nvSpPr>
          <p:cNvPr id="1462" name="Rectangle 7"/>
          <p:cNvSpPr/>
          <p:nvPr/>
        </p:nvSpPr>
        <p:spPr>
          <a:xfrm>
            <a:off x="228600" y="4952880"/>
            <a:ext cx="9448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hing in the E-ELT design precludes its implementation: fast response time  (&lt;20 min after trigger is received) is expected to be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ons expected to begin around 20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Picture 107" descr="\\ads-gfs1\home\fcomeron\Malaga 2009\gegenschein.jpg"/>
          <p:cNvPicPr/>
          <p:nvPr/>
        </p:nvPicPr>
        <p:blipFill>
          <a:blip r:embed="rId1"/>
          <a:stretch/>
        </p:blipFill>
        <p:spPr>
          <a:xfrm>
            <a:off x="0" y="0"/>
            <a:ext cx="10134720" cy="6858000"/>
          </a:xfrm>
          <a:prstGeom prst="rect">
            <a:avLst/>
          </a:prstGeom>
          <a:ln w="0">
            <a:noFill/>
          </a:ln>
        </p:spPr>
      </p:pic>
      <p:sp>
        <p:nvSpPr>
          <p:cNvPr id="1464" name="Rectangle 2"/>
          <p:cNvSpPr/>
          <p:nvPr/>
        </p:nvSpPr>
        <p:spPr>
          <a:xfrm>
            <a:off x="609480" y="990720"/>
            <a:ext cx="38102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Concluding remarks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466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Rectangle 7"/>
          <p:cNvSpPr/>
          <p:nvPr/>
        </p:nvSpPr>
        <p:spPr>
          <a:xfrm>
            <a:off x="228600" y="2286000"/>
            <a:ext cx="9448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operations model of large telescopes can accommodate a robotic-like mode for fast follow-up of trans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Enhanced possibilities opened up by remote real-time inte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w science is possible by operating large telescopes in this mode –and it is happening already n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09480" y="160020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The ESO Very Large Telescope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228600" y="1600200"/>
            <a:ext cx="5486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Unit Telescopes, each 8.2m diameter, on Cerro Paranal (Chile), at 2635m over sea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elescopes can be connected to form a near-infrared interferometer, with baselines of up to 120m, also using three 1.8m Auxiliary Telesco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perations since 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ly 11 instruments, plus 2 interferometry instruments, covering  a broad range of wavelengths, resolutions, and techn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 more VLT instruments under 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107" descr="\\ads-gfs1\home\fcomeron\Malaga 2009\UT1.jpg"/>
          <p:cNvPicPr/>
          <p:nvPr/>
        </p:nvPicPr>
        <p:blipFill>
          <a:blip r:embed="rId7"/>
          <a:stretch/>
        </p:blipFill>
        <p:spPr>
          <a:xfrm>
            <a:off x="5891040" y="1371600"/>
            <a:ext cx="3807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609480" y="160020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Why a Rapid Response Mode at the VLT?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228600" y="1676520"/>
            <a:ext cx="9372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at light collecting power: high S/N snapshots of quickly varying phenomena make it possible to study fast, faint transients in great det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de range of instrumentation available: imaging, long-slit and integral field spectroscopy, polarimetry, adaptive optics, high time resolution… both in the visible and near-infra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pid Response Mode offered since April 2004. Currently available at 6 instruments (FORS2, ISAAC, UVES, SINFONI, X-SHOOTER, HAWK-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sed thus far for FORS2 (and formerly FORS1), ISAAC, UVES, X-SHOO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ut the VLT was not designed to be a robotic telescop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The VLT operations model 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228600" y="1752480"/>
            <a:ext cx="937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ly based o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lexible schedul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st of the time (~70%) devoted to Service Mode observations, with user-specified constra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rt-term scheduling based on prevailing conditions, user-specified constraints, relative priorities among programmes, degree of completion, time criticality, instrument in use, optimization of the share of calibration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or fraction (~30%) devoted to Visitor Mode, when real-time decisions based on science criteria are expected (also to keep a strong link between the observatory and the commun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rget-of-Opportuntiy observations can be easily accommodated, non-disruptively, in the Service Mode sched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pid Response observations a bit more challenging, but also feasibl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How it works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228600" y="1371600"/>
            <a:ext cx="9372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eneric proposal is submitted, selected on scientific grou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generic Observation Blocks (OBs, logical units describing an observation) are submitted to ESO in advance of the trig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6480" indent="-449280">
              <a:lnSpc>
                <a:spcPct val="100000"/>
              </a:lnSpc>
              <a:spcBef>
                <a:spcPts val="11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RM OBs contain instrument setup and exposure parameters, but not coordin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gger signal is an ASCII file submitted via ftp to a server in Garching, automatically checked every few seconds by Para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6480" indent="-449280">
              <a:lnSpc>
                <a:spcPct val="100000"/>
              </a:lnSpc>
              <a:spcBef>
                <a:spcPts val="1199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indicates instrument and OB to be execu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480" indent="-449280">
              <a:lnSpc>
                <a:spcPct val="100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ntent is just the coordin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pon reception, the requested OB is completed (coordinates inserted) and sent for 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-mail sent simultaneously to Paranal, including link to finding cha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How it works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228600" y="18288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ecutability checks performed immediately (target observability, instrument availability, distance to the Moon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ltimate decision on execution is on telescope ope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elescope can be observing the even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thin 6 minu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trigger arri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1" descr=""/>
          <p:cNvPicPr/>
          <p:nvPr/>
        </p:nvPicPr>
        <p:blipFill>
          <a:blip r:embed="rId4"/>
          <a:stretch/>
        </p:blipFill>
        <p:spPr>
          <a:xfrm>
            <a:off x="4876920" y="1447920"/>
            <a:ext cx="47829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How it works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5" name="Picture 2" descr="\\ads-gfs1\home\fcomeron\Malaga 2009\Swift.jpg"/>
          <p:cNvPicPr/>
          <p:nvPr/>
        </p:nvPicPr>
        <p:blipFill>
          <a:blip r:embed="rId1"/>
          <a:stretch/>
        </p:blipFill>
        <p:spPr>
          <a:xfrm>
            <a:off x="762120" y="167652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7"/>
          <p:cNvSpPr/>
          <p:nvPr/>
        </p:nvSpPr>
        <p:spPr>
          <a:xfrm>
            <a:off x="228600" y="304812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ly generated al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ight Arrow 107"/>
          <p:cNvSpPr/>
          <p:nvPr/>
        </p:nvSpPr>
        <p:spPr>
          <a:xfrm>
            <a:off x="2514600" y="2057400"/>
            <a:ext cx="9144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2954e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\\ads-gfs1\home\fcomeron\Malaga 2009\pc.jpg"/>
          <p:cNvPicPr/>
          <p:nvPr/>
        </p:nvPicPr>
        <p:blipFill>
          <a:blip r:embed="rId2"/>
          <a:stretch/>
        </p:blipFill>
        <p:spPr>
          <a:xfrm>
            <a:off x="3809880" y="167652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7"/>
          <p:cNvSpPr/>
          <p:nvPr/>
        </p:nvSpPr>
        <p:spPr>
          <a:xfrm>
            <a:off x="3581280" y="3048120"/>
            <a:ext cx="221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ert processing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ight Arrow 110"/>
          <p:cNvSpPr/>
          <p:nvPr/>
        </p:nvSpPr>
        <p:spPr>
          <a:xfrm>
            <a:off x="5943600" y="2057400"/>
            <a:ext cx="9144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2954e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Picture 4" descr="\\ads-gfs1\home\fcomeron\Malaga 2009\ftp.png"/>
          <p:cNvPicPr/>
          <p:nvPr/>
        </p:nvPicPr>
        <p:blipFill>
          <a:blip r:embed="rId3"/>
          <a:stretch/>
        </p:blipFill>
        <p:spPr>
          <a:xfrm>
            <a:off x="6934320" y="15238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7"/>
          <p:cNvSpPr/>
          <p:nvPr/>
        </p:nvSpPr>
        <p:spPr>
          <a:xfrm>
            <a:off x="6629400" y="304812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ically completed O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5867280" y="175248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rig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2438280" y="16765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l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Down Arrow 115"/>
          <p:cNvSpPr/>
          <p:nvPr/>
        </p:nvSpPr>
        <p:spPr>
          <a:xfrm>
            <a:off x="7543800" y="3809880"/>
            <a:ext cx="484200" cy="83844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2954e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7924680" y="3809880"/>
            <a:ext cx="1752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bservation 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7" name="Picture 5" descr="\\ads-gfs1\home\fcomeron\Malaga 2009\control_room.jpg"/>
          <p:cNvPicPr/>
          <p:nvPr/>
        </p:nvPicPr>
        <p:blipFill>
          <a:blip r:embed="rId4"/>
          <a:stretch/>
        </p:blipFill>
        <p:spPr>
          <a:xfrm>
            <a:off x="6934320" y="4800600"/>
            <a:ext cx="1796760" cy="143496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7"/>
          <p:cNvSpPr/>
          <p:nvPr/>
        </p:nvSpPr>
        <p:spPr>
          <a:xfrm>
            <a:off x="6553080" y="624852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ors  dec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Left Arrow 119"/>
          <p:cNvSpPr/>
          <p:nvPr/>
        </p:nvSpPr>
        <p:spPr>
          <a:xfrm>
            <a:off x="5867280" y="5307120"/>
            <a:ext cx="901800" cy="48420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b2954e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5638680" y="464832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K to proc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6" descr="\\ads-gfs1\home\fcomeron\Malaga 2009\UT1.jpg"/>
          <p:cNvPicPr/>
          <p:nvPr/>
        </p:nvPicPr>
        <p:blipFill>
          <a:blip r:embed="rId5"/>
          <a:stretch/>
        </p:blipFill>
        <p:spPr>
          <a:xfrm>
            <a:off x="3886200" y="4038480"/>
            <a:ext cx="1676520" cy="221472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7"/>
          <p:cNvSpPr/>
          <p:nvPr/>
        </p:nvSpPr>
        <p:spPr>
          <a:xfrm>
            <a:off x="38098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3" name="Picture 4" descr="\\ads-gfs1\home\fcomeron\Malaga 2009\ftp.png"/>
          <p:cNvPicPr/>
          <p:nvPr/>
        </p:nvPicPr>
        <p:blipFill>
          <a:blip r:embed="rId6"/>
          <a:stretch/>
        </p:blipFill>
        <p:spPr>
          <a:xfrm>
            <a:off x="60948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734" name="Left Arrow 124"/>
          <p:cNvSpPr/>
          <p:nvPr/>
        </p:nvSpPr>
        <p:spPr>
          <a:xfrm>
            <a:off x="2514600" y="5307120"/>
            <a:ext cx="901800" cy="48420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b2954e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2133720" y="48769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ta 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7"/>
          <p:cNvSpPr/>
          <p:nvPr/>
        </p:nvSpPr>
        <p:spPr>
          <a:xfrm>
            <a:off x="5335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retri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Some policy issues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Rectangle 7"/>
          <p:cNvSpPr/>
          <p:nvPr/>
        </p:nvSpPr>
        <p:spPr>
          <a:xfrm>
            <a:off x="22860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RM have overriding status over any observation currently being completed (other than strictly time-critical o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quested instrument must be in operation at the time of the trigger: no change of focus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RM triggers accepted up to 4 hours after the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ollow-up observations after first OB are handled as normal Target-of-Opport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or Gamma-Ray Burst (GRB) RRM observations, data are made immediately available to all teams having approved RRM GRB program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l data are public through the ESO Archive after one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ime lost to RRM in Visitor Mode is compensated in Servi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Usage and performance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Rectangle 7"/>
          <p:cNvSpPr/>
          <p:nvPr/>
        </p:nvSpPr>
        <p:spPr>
          <a:xfrm>
            <a:off x="228600" y="1143000"/>
            <a:ext cx="9372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 programmes have made use of RRM observations thus f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riggered 39 times (as of 17 February 201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3h of integration time spent on RRM observ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8 papers including reference to observations made in this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1" name="Picture 2" descr="\\ads-gfs1\home\fcomeron\Malaga 2009\paper.jpg"/>
          <p:cNvPicPr/>
          <p:nvPr/>
        </p:nvPicPr>
        <p:blipFill>
          <a:blip r:embed="rId6"/>
          <a:stretch/>
        </p:blipFill>
        <p:spPr>
          <a:xfrm>
            <a:off x="762120" y="3228840"/>
            <a:ext cx="8496360" cy="3476880"/>
          </a:xfrm>
          <a:prstGeom prst="rect">
            <a:avLst/>
          </a:prstGeom>
          <a:ln w="0">
            <a:noFill/>
          </a:ln>
        </p:spPr>
      </p:pic>
      <p:sp>
        <p:nvSpPr>
          <p:cNvPr id="942" name="Rectangle 104"/>
          <p:cNvSpPr/>
          <p:nvPr/>
        </p:nvSpPr>
        <p:spPr>
          <a:xfrm>
            <a:off x="5105520" y="5181480"/>
            <a:ext cx="4038480" cy="1143000"/>
          </a:xfrm>
          <a:prstGeom prst="rect">
            <a:avLst/>
          </a:prstGeom>
          <a:solidFill>
            <a:srgbClr val="ffc000">
              <a:alpha val="27000"/>
            </a:srgbClr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08:26:13Z</dcterms:created>
  <dc:creator> Reinhard Hanuschik</dc:creator>
  <dc:description/>
  <dc:language>en-US</dc:language>
  <cp:lastModifiedBy>fcomeron</cp:lastModifiedBy>
  <cp:lastPrinted>2002-04-10T08:42:34Z</cp:lastPrinted>
  <dcterms:modified xsi:type="dcterms:W3CDTF">2011-03-02T06:08:37Z</dcterms:modified>
  <cp:revision>530</cp:revision>
  <dc:subject/>
  <dc:title>Operations of the Quality Control Group: The UVES case</dc:title>
</cp:coreProperties>
</file>