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FF4-74AE-4114-9EBE-6E83452F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B10-0423-4717-B59F-03E9E03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0D2-04EF-4FDE-9712-7AF7DAC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D61-0102-4802-9699-D932B228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718-D5B9-4C88-AF7C-2630BCFC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3802-3A49-4886-B81B-4286FC8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86B4-1AC8-46E6-BE58-CAF332E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5433-7A53-44C9-9BE8-F3DB918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ECC6-440F-4BDC-BADB-00C5939A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163-C672-4D86-8B56-B8E2AD9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8BC-3FBA-4E43-84FF-C2C4CC4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D27-C7BE-458F-83C5-8B8AE5A7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DEBE-8F57-45F2-9180-7FF7F5D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DE3E-E835-4DEB-960A-F6CC44F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811E-1534-4D39-AC3B-82570EE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448B-DFD3-4389-A697-D3CB0F02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146A-B17F-49D0-B14D-698DFDB0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C9E-1B0D-4E3A-A288-6C7A29CF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16E-CA5D-449A-94B3-7A143C4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A80-6BB7-42B8-9D05-0C4761F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05E-D973-481D-AE83-BC4517A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88D-59F6-4FAC-B2D9-B354E2F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BD7-9A59-42C7-B148-D4E0C63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1B0-DCCE-4FD6-89E1-F155756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3C27-4069-4D96-BC1F-E9C6FFA7F4B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83B-5BA6-4D18-BC19-5FDF2133B0C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\\ads-gfs1\home\fcomeron\Malaga 2009\UTs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695160" y="201600"/>
            <a:ext cx="9571320" cy="1455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0" y="48006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d204"/>
                </a:solidFill>
                <a:latin typeface="Arial"/>
              </a:rPr>
              <a:t>Fernando Comer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0" descr="eso-logo"/>
          <p:cNvPicPr/>
          <p:nvPr/>
        </p:nvPicPr>
        <p:blipFill>
          <a:blip r:embed="rId3"/>
          <a:stretch/>
        </p:blipFill>
        <p:spPr>
          <a:xfrm>
            <a:off x="3733920" y="4762440"/>
            <a:ext cx="639720" cy="800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152280" y="556272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6bd204"/>
                </a:solidFill>
                <a:latin typeface="Arial"/>
              </a:rPr>
              <a:t>With thanks to Paul Vreeswijk and the team who implemented the RRM at the V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UVES GRB afterglow sampl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1219320" y="1371600"/>
          <a:ext cx="7380000" cy="4599000"/>
        </p:xfrm>
        <a:graphic>
          <a:graphicData uri="http://schemas.openxmlformats.org/drawingml/2006/table">
            <a:tbl>
              <a:tblPr/>
              <a:tblGrid>
                <a:gridCol w="1282680"/>
                <a:gridCol w="1284120"/>
                <a:gridCol w="1282680"/>
                <a:gridCol w="1282680"/>
                <a:gridCol w="1284480"/>
                <a:gridCol w="963360"/>
              </a:tblGrid>
              <a:tr h="442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G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Times New Roman"/>
                        </a:rPr>
                        <a:t>Δ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Times New Roman"/>
                        </a:rPr>
                        <a:t>(hh:m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expt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(hour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log N</a:t>
                      </a:r>
                      <a:r>
                        <a:rPr b="0" lang="en-US" sz="1400" spc="-1" strike="noStrike" baseline="-6000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H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[X/H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208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0: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21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3: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4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9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2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8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0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50922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3: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60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4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606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0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710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2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4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8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19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.9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3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1: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3: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4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-1.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08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1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4: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9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810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0: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3.8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pperplate"/>
                          <a:ea typeface="Copperplate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1440">
                      <a:solidFill>
                        <a:srgbClr val="191919"/>
                      </a:solidFill>
                    </a:lnL>
                    <a:lnR w="1440">
                      <a:solidFill>
                        <a:srgbClr val="191919"/>
                      </a:solidFill>
                    </a:lnR>
                    <a:lnT w="1440">
                      <a:solidFill>
                        <a:srgbClr val="191919"/>
                      </a:solidFill>
                    </a:lnT>
                    <a:lnB w="1440">
                      <a:solidFill>
                        <a:srgbClr val="191919"/>
                      </a:solidFill>
                    </a:lnB>
                    <a:solidFill>
                      <a:srgbClr val="408000"/>
                    </a:solidFill>
                  </a:tcPr>
                </a:tc>
              </a:tr>
            </a:tbl>
          </a:graphicData>
        </a:graphic>
      </p:graphicFrame>
      <p:sp>
        <p:nvSpPr>
          <p:cNvPr id="1045" name="Rectangle 7"/>
          <p:cNvSpPr/>
          <p:nvPr/>
        </p:nvSpPr>
        <p:spPr>
          <a:xfrm>
            <a:off x="1066680" y="60199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grams by Vreeswijk et al., Fiore/D’Elia et 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Some highlight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47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228600" y="1295280"/>
            <a:ext cx="5181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ma-Ray Burst (GRB) afterglow photometric and spectroscopic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igation of the intervening intergalactic medium (dust content, metallicity, reionization epoch) along the line of sight to distant G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igation of the interstellar medium surrounding the GRB (ionization, dynamic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B/Supernova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er only for GRB thus far, but potential goes beyond GRBs (one program currently accepted for RRM observations of giant stellar flar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8" name="Picture 2" descr="\\ads-gfs1\home\fcomeron\Malaga 2009\spectra.jpg"/>
          <p:cNvPicPr/>
          <p:nvPr/>
        </p:nvPicPr>
        <p:blipFill>
          <a:blip r:embed="rId5"/>
          <a:stretch/>
        </p:blipFill>
        <p:spPr>
          <a:xfrm>
            <a:off x="5562720" y="1295280"/>
            <a:ext cx="4047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05"/>
          <p:cNvSpPr/>
          <p:nvPr/>
        </p:nvSpPr>
        <p:spPr>
          <a:xfrm>
            <a:off x="6172200" y="1295280"/>
            <a:ext cx="3581280" cy="449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9055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Absorption-line variability: probing the interstellar medium near GRB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7"/>
          <p:cNvSpPr/>
          <p:nvPr/>
        </p:nvSpPr>
        <p:spPr>
          <a:xfrm>
            <a:off x="228600" y="1371600"/>
            <a:ext cx="5791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stable and fine-structure levels of FeII, NiII at high z detected in absorption against G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V pumping caused by the GRB followed by fluorescence reproduces model expectations; collisional excitation and direct excitation by infrared photons are discard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B distance to absorbing clouds can be determined from models; from tens of pc to kiloparsecs (intervening material ionized by the GR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B spectral slope and UV flux irradiating the cloud are determined to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2" name="Picture 2" descr=""/>
          <p:cNvPicPr/>
          <p:nvPr/>
        </p:nvPicPr>
        <p:blipFill>
          <a:blip r:embed="rId6"/>
          <a:stretch/>
        </p:blipFill>
        <p:spPr>
          <a:xfrm>
            <a:off x="6248520" y="1371600"/>
            <a:ext cx="3504960" cy="4343400"/>
          </a:xfrm>
          <a:prstGeom prst="rect">
            <a:avLst/>
          </a:prstGeom>
          <a:ln w="0">
            <a:noFill/>
          </a:ln>
        </p:spPr>
      </p:pic>
      <p:sp>
        <p:nvSpPr>
          <p:cNvPr id="1253" name="Rectangle 7"/>
          <p:cNvSpPr/>
          <p:nvPr/>
        </p:nvSpPr>
        <p:spPr>
          <a:xfrm>
            <a:off x="4114800" y="5867280"/>
            <a:ext cx="5638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GRB 060418 from Vreeswijk et al. 2007, A&amp;A 468, 8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futur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22860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ast connection between Paranal and Europe will allow near-real time interaction, both ways, between an observer located (nearly) anywhere and the observ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SO is a pilot project, funded by the European Union’s Framework Program 7, to build a fiber link between Paranal and Cerro Armazones and the Chilean backbone near Antofaga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allation completed in November 2010, integration in operations in 20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SO will provide Gbps capacity between the observatories and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6" name="Picture 2" descr="\\ads-gfs1\home\fcomeron\Malaga 2009\FP7-cap-RGB.gif"/>
          <p:cNvPicPr/>
          <p:nvPr/>
        </p:nvPicPr>
        <p:blipFill>
          <a:blip r:embed="rId6"/>
          <a:stretch/>
        </p:blipFill>
        <p:spPr>
          <a:xfrm>
            <a:off x="7848720" y="5181480"/>
            <a:ext cx="1181160" cy="96048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3" descr="\\ads-gfs1\home\fcomeron\dmo\fp7\Network\logo_midsize.jpg"/>
          <p:cNvPicPr/>
          <p:nvPr/>
        </p:nvPicPr>
        <p:blipFill>
          <a:blip r:embed="rId7"/>
          <a:stretch/>
        </p:blipFill>
        <p:spPr>
          <a:xfrm>
            <a:off x="6934320" y="3581280"/>
            <a:ext cx="2792160" cy="146844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107" descr="http://www.eso.org/public/archives/images/screen/potw1021a.jpg"/>
          <p:cNvPicPr/>
          <p:nvPr/>
        </p:nvPicPr>
        <p:blipFill>
          <a:blip r:embed="rId8"/>
          <a:stretch/>
        </p:blipFill>
        <p:spPr>
          <a:xfrm>
            <a:off x="6858000" y="1600200"/>
            <a:ext cx="2828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futur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36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7"/>
          <p:cNvSpPr/>
          <p:nvPr/>
        </p:nvSpPr>
        <p:spPr>
          <a:xfrm>
            <a:off x="228600" y="1295280"/>
            <a:ext cx="4419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uropean Extremely Large Telescope (E-ELT) will be a fully adaptive telescope, equipped to address a wide range of astrophysical and cosmological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Mode can also be implemented at the E-ELT: diffraction-limited imaging and spectroscopy with a 40m-class tele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1" name="Picture 2" descr="\\ads-gfs1\home\fcomeron\Alghero_0908\E-ELT\landscape.jpg"/>
          <p:cNvPicPr/>
          <p:nvPr/>
        </p:nvPicPr>
        <p:blipFill>
          <a:blip r:embed="rId3"/>
          <a:stretch/>
        </p:blipFill>
        <p:spPr>
          <a:xfrm>
            <a:off x="4648320" y="1371600"/>
            <a:ext cx="4970520" cy="336708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7"/>
          <p:cNvSpPr/>
          <p:nvPr/>
        </p:nvSpPr>
        <p:spPr>
          <a:xfrm>
            <a:off x="228600" y="4952880"/>
            <a:ext cx="9448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hing in the E-ELT design precludes its implementation: fast response time  (&lt;20 min after trigger is received) is expected to b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expected to begin around 20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Picture 107" descr="\\ads-gfs1\home\fcomeron\Malaga 2009\gegenschein.jpg"/>
          <p:cNvPicPr/>
          <p:nvPr/>
        </p:nvPicPr>
        <p:blipFill>
          <a:blip r:embed="rId1"/>
          <a:stretch/>
        </p:blipFill>
        <p:spPr>
          <a:xfrm>
            <a:off x="0" y="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2"/>
          <p:cNvSpPr/>
          <p:nvPr/>
        </p:nvSpPr>
        <p:spPr>
          <a:xfrm>
            <a:off x="609480" y="990720"/>
            <a:ext cx="38102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Concluding rema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228600" y="2286000"/>
            <a:ext cx="9448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operations model of large telescopes can accommodate a robotic-like mode for fast follow-up of trans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nhanced possibilities opened up by remote real-time inte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 science is possible by operating large telescopes in this mode –and it is happening already n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09480" y="160020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ESO Very Large Telescop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2860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Unit Telescopes, each 8.2m diameter, on Cerro Paranal (Chile), at 2635m over sea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lescopes can be connected to form a near-infrared interferometer, with baselines of up to 120m, also using three 1.8m Auxiliary Telesco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perations since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11 instruments, plus 2 interferometry instruments, covering  a broad range of wavelengths, resolutions, and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 more VLT instruments under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07" descr="\\ads-gfs1\home\fcomeron\Malaga 2009\UT1.jpg"/>
          <p:cNvPicPr/>
          <p:nvPr/>
        </p:nvPicPr>
        <p:blipFill>
          <a:blip r:embed="rId7"/>
          <a:stretch/>
        </p:blipFill>
        <p:spPr>
          <a:xfrm>
            <a:off x="5891040" y="1371600"/>
            <a:ext cx="3807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09480" y="160020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Why a Rapid Response Mode at the VLT?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28600" y="1676520"/>
            <a:ext cx="9372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light collecting power: high S/N snapshots of quickly varying phenomena make it possible to study fast, faint transients in great de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 of instrumentation available: imaging, long-slit and integral field spectroscopy, polarimetry, adaptive optics, high time resolution… both in the visible and near-infra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Mode offered since April 2004. Currently available at 6 instruments (FORS2, ISAAC, UVES, SINFONI, X-SHOOTER, HAWK-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sed thus far for FORS2 (and formerly FORS1), ISAAC, UVES, X-SHOO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t the VLT was not designed to be a robotic telescop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The VLT operations model 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28600" y="1752480"/>
            <a:ext cx="93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ly based 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lexible schedul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of the time (~70%) devoted to Service Mode observations, with user-specified 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-term scheduling based on prevailing conditions, user-specified constraints, relative priorities among programmes, degree of completion, time criticality, instrument in use, optimization of the share of calibration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or fraction (~30%) devoted to Visitor Mode, when real-time decisions based on science criteria are expected (also to keep a strong link between the observatory and the commun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get-of-Opportuntiy observations can be easily accommodated, non-disruptively, in the Service Mode sche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sponse observations a bit more challenging, but also feasib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228600" y="137160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eneric proposal is submitted, selected on scientific gro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generic Observation Blocks (OBs, logical units describing an observation) are submitted to ESO in advance of the 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RM OBs contain instrument setup and exposure parameters, but not coordin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signal is an ASCII file submitted via ftp to a server in Garching, automatically checked every few seconds by Para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indicates instrument and OB to be execu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480" indent="-449280">
              <a:lnSpc>
                <a:spcPct val="100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ent is just the coordin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pon reception, the requested OB is completed (coordinates inserted) and sent for 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-mail sent simultaneously to Paranal, including link to finding 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228600" y="18288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ecutability checks performed immediately (target observability, instrument availability, distance to the Moon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ltimate decision on execution is on telescope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lescope can be observing the even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thin 6 minu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rigger arr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1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47829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How it work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2" descr="\\ads-gfs1\home\fcomeron\Malaga 2009\Swift.jpg"/>
          <p:cNvPicPr/>
          <p:nvPr/>
        </p:nvPicPr>
        <p:blipFill>
          <a:blip r:embed="rId1"/>
          <a:stretch/>
        </p:blipFill>
        <p:spPr>
          <a:xfrm>
            <a:off x="762120" y="167652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7"/>
          <p:cNvSpPr/>
          <p:nvPr/>
        </p:nvSpPr>
        <p:spPr>
          <a:xfrm>
            <a:off x="228600" y="30481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ly generated al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ight Arrow 107"/>
          <p:cNvSpPr/>
          <p:nvPr/>
        </p:nvSpPr>
        <p:spPr>
          <a:xfrm>
            <a:off x="2514600" y="205740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\\ads-gfs1\home\fcomeron\Malaga 2009\pc.jpg"/>
          <p:cNvPicPr/>
          <p:nvPr/>
        </p:nvPicPr>
        <p:blipFill>
          <a:blip r:embed="rId2"/>
          <a:stretch/>
        </p:blipFill>
        <p:spPr>
          <a:xfrm>
            <a:off x="3809880" y="16765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3581280" y="30481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ert process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ight Arrow 110"/>
          <p:cNvSpPr/>
          <p:nvPr/>
        </p:nvSpPr>
        <p:spPr>
          <a:xfrm>
            <a:off x="5943600" y="2057400"/>
            <a:ext cx="914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4" descr="\\ads-gfs1\home\fcomeron\Malaga 2009\ftp.png"/>
          <p:cNvPicPr/>
          <p:nvPr/>
        </p:nvPicPr>
        <p:blipFill>
          <a:blip r:embed="rId3"/>
          <a:stretch/>
        </p:blipFill>
        <p:spPr>
          <a:xfrm>
            <a:off x="6934320" y="1523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7"/>
          <p:cNvSpPr/>
          <p:nvPr/>
        </p:nvSpPr>
        <p:spPr>
          <a:xfrm>
            <a:off x="6629400" y="30481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ically completed 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5867280" y="1752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2438280" y="16765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Down Arrow 115"/>
          <p:cNvSpPr/>
          <p:nvPr/>
        </p:nvSpPr>
        <p:spPr>
          <a:xfrm>
            <a:off x="7543800" y="3809880"/>
            <a:ext cx="484200" cy="8384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7924680" y="3809880"/>
            <a:ext cx="175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servation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5" descr="\\ads-gfs1\home\fcomeron\Malaga 2009\control_room.jpg"/>
          <p:cNvPicPr/>
          <p:nvPr/>
        </p:nvPicPr>
        <p:blipFill>
          <a:blip r:embed="rId4"/>
          <a:stretch/>
        </p:blipFill>
        <p:spPr>
          <a:xfrm>
            <a:off x="6934320" y="4800600"/>
            <a:ext cx="1796760" cy="14349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7"/>
          <p:cNvSpPr/>
          <p:nvPr/>
        </p:nvSpPr>
        <p:spPr>
          <a:xfrm>
            <a:off x="6553080" y="624852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ors  d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eft Arrow 119"/>
          <p:cNvSpPr/>
          <p:nvPr/>
        </p:nvSpPr>
        <p:spPr>
          <a:xfrm>
            <a:off x="5867280" y="5307120"/>
            <a:ext cx="901800" cy="484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5638680" y="464832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K to proc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\\ads-gfs1\home\fcomeron\Malaga 2009\UT1.jpg"/>
          <p:cNvPicPr/>
          <p:nvPr/>
        </p:nvPicPr>
        <p:blipFill>
          <a:blip r:embed="rId5"/>
          <a:stretch/>
        </p:blipFill>
        <p:spPr>
          <a:xfrm>
            <a:off x="3886200" y="4038480"/>
            <a:ext cx="1676520" cy="22147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7"/>
          <p:cNvSpPr/>
          <p:nvPr/>
        </p:nvSpPr>
        <p:spPr>
          <a:xfrm>
            <a:off x="38098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4" descr="\\ads-gfs1\home\fcomeron\Malaga 2009\ftp.png"/>
          <p:cNvPicPr/>
          <p:nvPr/>
        </p:nvPicPr>
        <p:blipFill>
          <a:blip r:embed="rId6"/>
          <a:stretch/>
        </p:blipFill>
        <p:spPr>
          <a:xfrm>
            <a:off x="60948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34" name="Left Arrow 124"/>
          <p:cNvSpPr/>
          <p:nvPr/>
        </p:nvSpPr>
        <p:spPr>
          <a:xfrm>
            <a:off x="2514600" y="5307120"/>
            <a:ext cx="901800" cy="484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2954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2133720" y="48769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5335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retri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Some policy issues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22860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RM have overriding status over any observation currently being completed (other than strictly time-critical o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quested instrument must be in operation at the time of the trigger: no change of focus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RM triggers accepted up to 4 hours after the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ollow-up observations after first OB are handled as normal Target-of-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or Gamma-Ray Burst (GRB) RRM observations, data are made immediately available to all teams having approved RRM GRB program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l data are public through the ESO Archive after on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ime lost to RRM in Visitor Mode is compensated in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8445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Usage and performance</a:t>
            </a:r>
            <a:endParaRPr b="1" lang="en-US" sz="36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1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1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1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1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1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2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2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2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angle 2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3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31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3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3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3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37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3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3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4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4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4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4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4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4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4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4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4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4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5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angle 5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angle 5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Rectangle 5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Rectangle 5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5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5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5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5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5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6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6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6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6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6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6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6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6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6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6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7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7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7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74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75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76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angle 7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79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8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8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8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8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8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Rectangle 8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8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87"/>
          <p:cNvSpPr/>
          <p:nvPr/>
        </p:nvSpPr>
        <p:spPr>
          <a:xfrm>
            <a:off x="0" y="3338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8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8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9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9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92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93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9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9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9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97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9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99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101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104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06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108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110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228600" y="1143000"/>
            <a:ext cx="9372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49280" indent="-449280"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programmes have made use of RRM observations thus f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riggered 39 times (as of 17 February 20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3h of integration time spent on RRM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 papers including reference to observations made in this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Picture 2" descr="\\ads-gfs1\home\fcomeron\Malaga 2009\paper.jpg"/>
          <p:cNvPicPr/>
          <p:nvPr/>
        </p:nvPicPr>
        <p:blipFill>
          <a:blip r:embed="rId6"/>
          <a:stretch/>
        </p:blipFill>
        <p:spPr>
          <a:xfrm>
            <a:off x="762120" y="3228840"/>
            <a:ext cx="8496360" cy="347688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104"/>
          <p:cNvSpPr/>
          <p:nvPr/>
        </p:nvSpPr>
        <p:spPr>
          <a:xfrm>
            <a:off x="5105520" y="5181480"/>
            <a:ext cx="4038480" cy="1143000"/>
          </a:xfrm>
          <a:prstGeom prst="rect">
            <a:avLst/>
          </a:prstGeom>
          <a:solidFill>
            <a:srgbClr val="ffc000">
              <a:alpha val="27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08:26:13Z</dcterms:created>
  <dc:creator> Reinhard Hanuschik</dc:creator>
  <dc:description/>
  <dc:language>en-US</dc:language>
  <cp:lastModifiedBy>fcomeron</cp:lastModifiedBy>
  <cp:lastPrinted>2002-04-10T08:42:34Z</cp:lastPrinted>
  <dcterms:modified xsi:type="dcterms:W3CDTF">2011-03-02T06:08:37Z</dcterms:modified>
  <cp:revision>530</cp:revision>
  <dc:subject/>
  <dc:title>Operations of the Quality Control Group: The UVES case</dc:title>
</cp:coreProperties>
</file>